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03E8-5176-43B4-92DE-37730488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791C-73E2-413C-BE4A-6BAD0CE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BCDE-0CC3-4911-B06B-5B75F995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EC00-5C48-4384-8CF0-49A9B9AA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10D-A2E1-4512-BE99-AAB85A33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1D9C-DD0D-4BDC-B174-2D4CF839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701B-A40B-4B4D-9B83-F6A65585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AF18-0C3D-4199-8543-9AB50A36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931A-6D76-4B2E-8F60-9DF38FA7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91F0-A285-4C0C-97B2-56609F96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3A9D-A68D-431E-B39B-74343EC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0568-2B9E-4559-9582-AAD05AF1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7B8C-BA8A-481D-8954-BAD2EA5F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7996-30DB-41F4-B09F-F50DB13F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DDD4-C74C-4CF4-B1D8-E68ECC4C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2C88-E153-4A89-8A7D-18C43F63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13A2-EB4C-4EF0-889D-E7C174F8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DCDF-D292-4D75-B737-1F156271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F1C3-CEB7-4DD5-817C-FB9F85CD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7FCC-3E55-4B48-B34F-A832D564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F3B2-5C35-40E4-A5AD-3F6DADCF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B386-2A93-458B-9536-ECCDCAB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A846-2FD1-4D31-A60E-24FDF8DA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3FF7-C312-412A-AB5A-8A024A7F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3AAD-EBAA-4D22-8570-149CE27E3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99F9-4B18-4F79-A59E-003DAAADE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プロモーションスペース等運営委託　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A10-92CE-4643-ADFC-041FCFCE4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7T00:13:10Z</dcterms:created>
  <dc:creator/>
  <dc:description/>
  <dc:language>en-US</dc:language>
  <cp:lastModifiedBy/>
  <dcterms:modified xsi:type="dcterms:W3CDTF">2023-01-17T00:13:13Z</dcterms:modified>
  <cp:revision>1</cp:revision>
  <dc:subject/>
  <dc:title/>
</cp:coreProperties>
</file>