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1FFA4-55AE-4F89-8690-943F1E79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46FED-1D0B-4CF5-A9BE-C49D95D4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05A11-9AAB-4B4B-9A13-892FC7A5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8E829-5491-4C16-A1FF-3B01FE8B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24B8-214F-4091-9007-6E155DD3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5873-B95B-4E9C-AD61-6011C4B7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DB60-052B-4938-AB14-551C3A18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9558-1AE6-4297-8335-2D01249F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3C41-4E5B-4FAE-9DCA-4B71576B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A329-E84B-465B-B11A-A3BB37E8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45EF-FC9A-4786-92F9-96647AC6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7109E-4C00-492B-8D7F-9DAA43D8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21EA-2190-4BD1-BC5E-5FA65F63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5A78-F510-426D-8819-3D1A11A2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7D57-9508-4B65-AF92-2E510FD8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DB06-C122-41B3-84F0-8D12D27B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7183-2122-4345-B180-D56B63A6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CBC9C-231C-4608-BFD1-27443FF3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5572B-CFCB-430E-B352-8C352F6B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CF395-EFFC-46C5-AC75-634F5338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5E29E-1CC2-4B13-B61D-8E078028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82E31-D454-413A-8D52-94B6FD04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4327B-7947-4B63-BF90-7F262090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BB0C6-8684-4BE5-BA86-92018E53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559E-95B5-47C0-8550-8ADF6E6901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CCF9-E9E9-44A9-BB34-B94F140D9F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1833120"/>
            <a:ext cx="672336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令和７年度「絵本のまちひろば」</a:t>
            </a:r>
            <a:br>
              <a:rPr sz="3000"/>
            </a:b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運営委託　企画提案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Arial"/>
              </a:rPr>
              <a:t>令和　　　年　　月　　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留意事項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・副本には社名・ロゴ等を記載しないこと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様式３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480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スライド番号プレースホル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4506-0530-45AC-9EFE-AA543888A4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ｺﾞｼｯｸE"/>
              </a:rPr>
              <a:t>目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あいうえお・・・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ポイ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石原 梨菜</cp:lastModifiedBy>
  <cp:lastPrinted>2019-01-07T23:26:14Z</cp:lastPrinted>
  <dcterms:modified xsi:type="dcterms:W3CDTF">2024-12-10T08:44:04Z</dcterms:modified>
  <cp:revision>65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