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E8BEB-9480-4E8C-8CD5-7E07DA0B6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B5BD2-37B1-4A77-A77A-BE2E7E4ED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3BBBA-46EF-4BE9-A64A-C38533071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93FFC-35E0-4778-95C7-DBB037BF7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7517F-C55D-41D0-A047-213D308BE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9D8F5-1AE3-4168-8C0F-488387B89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9DEE0-73DC-4731-9B7F-6FB2A925E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52C4C-6DBC-44CE-81ED-187BA66A0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55580-8273-45AF-BDD8-99753DC39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D6240-0FBC-4BFF-B3F7-94CB49850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ECA5B-F0EF-4FCD-919B-E1A56C4A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CC99F-6BBA-4C10-A841-B72379084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42621-94FD-4FED-93CB-1D2201BE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65ED2-8D51-4884-AD0F-092D6FF5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81C68-0143-4925-B6D5-DFC23AE63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42F9B-542C-48CD-92C6-38FBA699E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53712-E7B5-4DC3-A0A4-D68CBA3DE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C0D65-F852-495B-986B-D6CD23B89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896FC-ACD0-4AF2-885A-14B83B6F1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6EC85-5D00-44E8-88C0-8E91BD4C8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330F4-0875-43FF-A5B4-FB8E5914E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FEAD4-1A8C-4B09-93A0-EECC9765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2F81E-489C-4B67-A9C6-4F4AE5E9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D6B85-38DB-46C5-B216-BBC5FC5C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843DB-8B4A-4858-B280-B6580B5581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463AC-E8A2-4A66-BF00-ABC99D9DA4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68360" y="1833120"/>
            <a:ext cx="6723360" cy="20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  <a:ea typeface="HG創英角ｺﾞｼｯｸUB"/>
              </a:rPr>
              <a:t>ＳＤＧｓプラットフォームポータルサイト構築、運営・保守等業務委託　</a:t>
            </a:r>
            <a:br>
              <a:rPr sz="3000"/>
            </a:br>
            <a:r>
              <a:rPr b="0" lang="ja-JP" sz="3000" spc="-1" strike="noStrike">
                <a:solidFill>
                  <a:srgbClr val="ffffff"/>
                </a:solidFill>
                <a:latin typeface="Arial"/>
                <a:ea typeface="HG創英角ｺﾞｼｯｸUB"/>
              </a:rPr>
              <a:t>企画提案書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563640" y="3789000"/>
            <a:ext cx="5327640" cy="3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ffffff"/>
                </a:solidFill>
                <a:latin typeface="Arial"/>
              </a:rPr>
              <a:t>令和　　　年　　月　　日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2556000" y="4292640"/>
            <a:ext cx="576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ja-JP" sz="1200" spc="-1" strike="noStrike">
                <a:solidFill>
                  <a:srgbClr val="ff0000"/>
                </a:solidFill>
                <a:latin typeface="Arial"/>
              </a:rPr>
              <a:t>留意事項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】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・副本には社名・ロゴ等を記載しないこと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7667640" y="620640"/>
            <a:ext cx="1295280" cy="914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7885080" y="18900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様式２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8524800" y="836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スライド番号プレースホルダ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47ECE-93A1-40A1-BD6D-2FD316625D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HGPｺﾞｼｯｸE"/>
              </a:rPr>
              <a:t>目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BD15034_"/>
          <p:cNvPicPr/>
          <p:nvPr/>
        </p:nvPicPr>
        <p:blipFill>
          <a:blip r:embed="rId1"/>
          <a:stretch/>
        </p:blipFill>
        <p:spPr>
          <a:xfrm>
            <a:off x="539640" y="765000"/>
            <a:ext cx="8209080" cy="1368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362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あいうえお・・・</a:t>
            </a:r>
            <a:r>
              <a:rPr b="0" lang="en-US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12</a:t>
            </a: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ポイ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2:00:28Z</dcterms:created>
  <dc:creator>板橋区</dc:creator>
  <dc:description/>
  <dc:language>en-US</dc:language>
  <cp:lastModifiedBy>安川 史章</cp:lastModifiedBy>
  <cp:lastPrinted>2019-01-07T23:26:14Z</cp:lastPrinted>
  <dcterms:modified xsi:type="dcterms:W3CDTF">2023-12-26T01:40:15Z</dcterms:modified>
  <cp:revision>65</cp:revision>
  <dc:subject/>
  <dc:title>板橋区気象観測システム 賃貸借事業提案書 ー 詳細版 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カテゴリ">
    <vt:lpwstr>全体</vt:lpwstr>
  </property>
  <property fmtid="{D5CDD505-2E9C-101B-9397-08002B2CF9AE}" pid="3" name="有効期限">
    <vt:lpwstr/>
  </property>
  <property fmtid="{D5CDD505-2E9C-101B-9397-08002B2CF9AE}" pid="4" name="重要度">
    <vt:lpwstr>中</vt:lpwstr>
  </property>
</Properties>
</file>