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4C0E-45FB-4CFD-B993-113E6C6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ABE2-7848-4BAC-A402-958F7FE4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FE42-0E84-47D8-B860-3F04C75F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B97E-1FBF-4262-B577-91AEFB18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B4C-DFEC-45B6-8098-8EE24308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470E-EC11-43D4-ABC6-AA0FC03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D06-8FB5-425E-9EFF-03B9AF7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2FD6-F66E-4712-9C64-C1DBBC8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0B5-2DD8-4865-AEBC-2B519D6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44C-0E1D-4FA9-8F7A-A10041F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EB8-3E92-4410-A192-E42ED75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69B0-4648-4D88-9A18-D3C8238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A77-3C76-41CD-8FD6-EB2C1E4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FD9E-B344-4F5D-B055-5FA0E99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565E-DD24-428C-AB6C-B01EAAC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5857-3707-4AE9-8488-470A0EDA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9925-8FC8-4F52-B2CD-798494F9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D9BE-6FAE-4661-BF50-88B3A1E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F244-1437-4C09-8A4A-2C82F77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75FE-F645-4503-9257-D79F3F5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1BD0-E22B-46A4-BB78-6D2E172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ACE5-EEEA-4034-9184-68978E5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0067-727B-42EC-987B-E7089A9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50EF-2B8F-42DB-8340-CBD5064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33FC-98FE-4F65-A8F3-4547C3AF1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177-4461-4DDB-A9D1-CB65154B096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いたばしグリーンプラン</a:t>
            </a:r>
            <a:r>
              <a:rPr b="1" lang="en-US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35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策定</a:t>
            </a: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業務委託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　企画提案書</a:t>
            </a:r>
            <a:br>
              <a:rPr sz="30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C6FD-6B20-4AE4-8EA1-137EFE570430}" type="slidenum"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42880" y="768240"/>
            <a:ext cx="8204400" cy="133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西村 直紘</cp:lastModifiedBy>
  <cp:lastPrinted>2020-01-07T04:53:42Z</cp:lastPrinted>
  <dcterms:modified xsi:type="dcterms:W3CDTF">2024-04-24T07:34:56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