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65B1-3DBA-40A1-90A4-58F3A29C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F46C-4FEF-41C9-8482-F413F3A2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10DC-4309-4EEB-8FB5-675EE6C7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0A98-03A3-45E8-ADD2-AB9029E5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D1A4-9EFA-4355-8FA3-6A1F02F6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F509-79AC-4649-93DF-24704F74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4E09-82BA-43AC-8184-FAEFA81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2AD7-BE08-4A7B-A547-DBA1E99D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A93C-3EF3-4863-AB52-C83D0FBF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D570-0741-4E74-8375-AEB7DBF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83F-53CD-4397-856C-3A1ECF3E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3E96-4BF4-47FD-BA7F-7DCA050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D7E-F528-4DE7-92D5-028D79C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8DCD-208D-45BA-A814-EA3CB92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07C9-90F2-4693-8EAC-2DF9D33D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FCAE-A825-4ACE-B353-AD46225F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108-1EA4-4CEB-AF15-F7178CB7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AB79-37E2-4849-A98D-70407E3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E3A8-AE07-42F8-A9FD-B6E0B21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43AB-57A3-4FCD-8C7E-AB66CF7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CC95-DF96-4FA0-BC7D-F69E87A7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F809-6673-410F-BE88-01551AF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B9BE-0071-4F29-AFC8-1DFECBA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CDDA-D324-471C-A518-EBB21DD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9A3-29FF-45F5-B3FA-A62A28A13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D27B-8EC6-4B26-AFAB-5E214A690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97784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CI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マニュアル及びデザインシステム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マニュアル等改定支援業務委託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9B06-36F4-4C66-A131-7BF3275E2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石原 梨菜</cp:lastModifiedBy>
  <cp:lastPrinted>2019-01-07T23:26:14Z</cp:lastPrinted>
  <dcterms:modified xsi:type="dcterms:W3CDTF">2025-01-08T05:14:35Z</dcterms:modified>
  <cp:revision>67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