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B26FF-78BA-456B-9EB3-6E11CDFA5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88E8B-05A4-43DE-A7A9-811FD1F4E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2C2AE-2835-4131-9422-AA11A60BF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1395C-E966-4EDF-8D49-82EC5D78D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13CD0-73F2-44E4-8E20-2AFA6E17C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D5BCD-6FDD-4EE4-B71B-092333AF4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56DB4-0713-45F1-AE7F-A96890CEE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932D7-FDD6-43D6-8045-C69B10538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A2AE7-5F8E-46C9-A8A6-ED4E0E587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5B941-C129-4A97-8566-63249E22B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77889-7844-4BBC-9C20-C7B98B2B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90636-B187-4B59-8E36-8E4924B4F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F5862-893A-4303-92A5-78A4E0DE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5820C-E042-4DF2-90EB-9930E3D95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507B5-D27F-4D7D-B7BB-F4E8A874E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4016A-88A3-41C5-BF54-7B7E75959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69857-65EC-4EC8-A5A4-8F9F84BFD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2C04B-88EB-4F07-9B7E-785777EC1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08F83-802E-471E-8173-C9F8EAABE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9934D-38D7-40E7-9FC5-4D952EA3C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C8562-C297-425F-AB1A-6EED9BD8D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8EEB9-581A-4948-9326-DC3652949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5BDB6-5C89-41D5-81D1-CD82D4932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2A96B-D1CD-4ECF-9D04-24C3E72B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23185-CCD9-45CF-BA65-B4A27F37ED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857C0-6589-40CE-A14B-629175693C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16360" y="1833120"/>
            <a:ext cx="6075360" cy="20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ffff"/>
                </a:solidFill>
                <a:latin typeface="メイリオ"/>
                <a:ea typeface="メイリオ"/>
              </a:rPr>
              <a:t>新たな働き方をめざした</a:t>
            </a:r>
            <a:br>
              <a:rPr sz="2800"/>
            </a:br>
            <a:r>
              <a:rPr b="1" lang="ja-JP" sz="2800" spc="-1" strike="noStrike">
                <a:solidFill>
                  <a:srgbClr val="ffffff"/>
                </a:solidFill>
                <a:latin typeface="メイリオ"/>
                <a:ea typeface="メイリオ"/>
              </a:rPr>
              <a:t>オフィス改革</a:t>
            </a:r>
            <a:r>
              <a:rPr b="1" lang="zh-TW" sz="2800" spc="-1" strike="noStrike">
                <a:solidFill>
                  <a:srgbClr val="ffffff"/>
                </a:solidFill>
                <a:latin typeface="メイリオ"/>
                <a:ea typeface="メイリオ"/>
              </a:rPr>
              <a:t>支援業務委託</a:t>
            </a:r>
            <a:br>
              <a:rPr sz="2800"/>
            </a:br>
            <a:r>
              <a:rPr b="1" lang="ja-JP" sz="2800" spc="-1" strike="noStrike">
                <a:solidFill>
                  <a:srgbClr val="ffffff"/>
                </a:solidFill>
                <a:latin typeface="メイリオ"/>
                <a:ea typeface="メイリオ"/>
              </a:rPr>
              <a:t>企画提案書</a:t>
            </a:r>
            <a:br>
              <a:rPr sz="3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563640" y="3789000"/>
            <a:ext cx="5327640" cy="3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ffffff"/>
                </a:solidFill>
                <a:latin typeface="メイリオ"/>
                <a:ea typeface="メイリオ"/>
              </a:rPr>
              <a:t>令和　　　年　　月　　日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2556000" y="4292640"/>
            <a:ext cx="5761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メイリオ"/>
                <a:ea typeface="メイリオ"/>
              </a:rPr>
              <a:t>【</a:t>
            </a:r>
            <a:r>
              <a:rPr b="1" lang="ja-JP" sz="1200" spc="-1" strike="noStrike">
                <a:solidFill>
                  <a:srgbClr val="ff0000"/>
                </a:solidFill>
                <a:latin typeface="メイリオ"/>
                <a:ea typeface="メイリオ"/>
              </a:rPr>
              <a:t>留意事項</a:t>
            </a:r>
            <a:r>
              <a:rPr b="1" lang="en-US" sz="1200" spc="-1" strike="noStrike">
                <a:solidFill>
                  <a:srgbClr val="ff0000"/>
                </a:solidFill>
                <a:latin typeface="メイリオ"/>
                <a:ea typeface="メイリオ"/>
              </a:rPr>
              <a:t>】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メイリオ"/>
                <a:ea typeface="メイリオ"/>
              </a:rPr>
              <a:t>・提案書（副本）に社名・ロゴ等を記載しないこと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3"/>
          <p:cNvSpPr/>
          <p:nvPr/>
        </p:nvSpPr>
        <p:spPr>
          <a:xfrm>
            <a:off x="7667640" y="620640"/>
            <a:ext cx="1295280" cy="914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7885080" y="189000"/>
            <a:ext cx="93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様式２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8523720" y="836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メイリオ"/>
                <a:ea typeface="メイリオ"/>
              </a:rPr>
              <a:t>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スライド番号プレースホルダ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3620E-1991-4EC8-A478-DF27A87D9BF2}" type="slidenum">
              <a:rPr b="0" lang="en-US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目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BD15034_"/>
          <p:cNvPicPr/>
          <p:nvPr/>
        </p:nvPicPr>
        <p:blipFill>
          <a:blip r:embed="rId1"/>
          <a:stretch/>
        </p:blipFill>
        <p:spPr>
          <a:xfrm>
            <a:off x="539640" y="765000"/>
            <a:ext cx="8209080" cy="1368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362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あいうえお・・・</a:t>
            </a:r>
            <a:r>
              <a:rPr b="0" lang="en-US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12</a:t>
            </a:r>
            <a:r>
              <a:rPr b="0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ポイ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2:00:28Z</dcterms:created>
  <dc:creator>板橋区</dc:creator>
  <dc:description/>
  <dc:language>en-US</dc:language>
  <cp:lastModifiedBy>大野 雄太</cp:lastModifiedBy>
  <cp:lastPrinted>2020-01-07T04:53:42Z</cp:lastPrinted>
  <dcterms:modified xsi:type="dcterms:W3CDTF">2025-01-21T06:45:33Z</dcterms:modified>
  <cp:revision>79</cp:revision>
  <dc:subject/>
  <dc:title>板橋区気象観測システム 賃貸借事業提案書 ー 詳細版 ー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カテゴリ">
    <vt:lpwstr>全体</vt:lpwstr>
  </property>
  <property fmtid="{D5CDD505-2E9C-101B-9397-08002B2CF9AE}" pid="3" name="有効期限">
    <vt:lpwstr/>
  </property>
  <property fmtid="{D5CDD505-2E9C-101B-9397-08002B2CF9AE}" pid="4" name="重要度">
    <vt:lpwstr>中</vt:lpwstr>
  </property>
</Properties>
</file>