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6929-86AC-4D24-9E82-C307E205C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E6F2-01E3-4394-963F-02502D2E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58FB-5356-4F99-84AF-E3AA5033D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7F18-DDB7-4BEE-A987-527B03A8B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A9E7-FA44-431A-BCED-F1CD510BC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EFCA-9E79-4D44-80BD-68A5F2EE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AC6A-7E4E-4AE5-AED5-6B59D569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9CBB-5F41-4064-8E50-E9E01616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6BFD-F47F-415B-84A0-48B06B03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6A1F-907A-4201-96EE-18616508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B312-717C-48F7-8499-A9AA2050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7641-3700-4D68-BEE5-683531A5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B2F9-0E9D-4E4C-BE5B-2AC3C944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E419-9575-42F2-9E2E-C226C884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B288-9732-48A2-A3B3-2153ED11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8A01-9D09-4547-85B9-3ED88EDD2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998D-010A-47CB-9119-38BA0B133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39329-046B-4103-AD78-5AF7098BC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646F6-4ED3-45F2-9226-107A60F3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8D496-CC02-4CA1-A372-9ECB7D55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62997-CF68-471B-9D88-2CB51663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7AA9E-E4E7-4B03-9F60-BBBCAEAD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6BC9-3E34-4B30-9E4A-FF4E0C31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CBF16-612C-41E2-936D-BF612D76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56C14-8AA3-4D99-BD6D-96C27AA9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23C4B-236E-4C66-9695-1645F168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FA55F-08C6-455D-B105-625DB827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5503D-2A70-4996-B32D-475063DB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9F6A9-CAF0-4A36-ABAB-FEC20E2C6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43CC9-D0B1-4E0A-8915-81C0AEC74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B5BCE-2385-4F13-A7D4-89D397276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3BE8B-824C-4CB6-910D-3523C8CD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D413F-349D-4FC5-91E0-900D067E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215D-8597-4410-B5BF-097B44C6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2AA11-9339-4857-A159-493FC1E6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766C1-263D-4F43-9FE2-74A582CD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BB43B-598F-4B60-B9C3-326C6DF1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634D3-4F33-472E-95EC-CAC64F8B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C7D75-0E00-48CB-BE39-E3339C0B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8DF39-446D-4371-86EB-08DB8C60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51A6C-2639-4AC6-A5BD-3D2C97A3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5455A-BA68-45DE-A197-946F79676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06462-B34D-4274-85AB-3489625BE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064B-FFE2-473D-869E-5E4ED7AE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350C-BA7C-493B-A34E-B24722BA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06EC-D329-4C5D-BFBB-E548659A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D062-509D-4632-8612-A74DE8A4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D8A6-0EEE-4155-B9BF-42AD4857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  <a:ea typeface="メイリオ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AA0246-8500-451D-98EC-8CFA4838D6DC}" type="slidenum">
              <a:rPr b="0" lang="en-US" sz="900" spc="-1" strike="noStrike">
                <a:solidFill>
                  <a:srgbClr val="90c226"/>
                </a:solidFill>
                <a:latin typeface="Times New Roman"/>
                <a:ea typeface="メイリオ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  <a:ea typeface="メイリオ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1A0169-06E7-446F-A8EF-93A7F8551046}" type="slidenum">
              <a:rPr b="0" lang="en-US" sz="900" spc="-1" strike="noStrike">
                <a:solidFill>
                  <a:srgbClr val="90c226"/>
                </a:solidFill>
                <a:latin typeface="Times New Roman"/>
                <a:ea typeface="メイリオ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  <a:ea typeface="ＭＳ Ｐゴシック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  <a:ea typeface="ＭＳ Ｐゴシック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  <a:ea typeface="メイリオ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16E7FF-40D9-467C-AD00-D750AF5EAE76}" type="slidenum">
              <a:rPr b="0" lang="en-US" sz="900" spc="-1" strike="noStrike">
                <a:solidFill>
                  <a:srgbClr val="90c226"/>
                </a:solidFill>
                <a:latin typeface="Times New Roman"/>
                <a:ea typeface="メイリオ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  <a:ea typeface="ＭＳ Ｐゴシック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  <a:ea typeface="ＭＳ Ｐゴシック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  <a:ea typeface="メイリオ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87883F-BA90-4B79-8F46-0A1241E5C6C1}" type="slidenum">
              <a:rPr b="0" lang="en-US" sz="900" spc="-1" strike="noStrike">
                <a:solidFill>
                  <a:srgbClr val="90c226"/>
                </a:solidFill>
                <a:latin typeface="Times New Roman"/>
                <a:ea typeface="メイリオ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9280" y="1761840"/>
            <a:ext cx="7056720" cy="20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2400" spc="-1" strike="noStrike">
                <a:solidFill>
                  <a:srgbClr val="90c226"/>
                </a:solidFill>
                <a:latin typeface="HGSｺﾞｼｯｸE"/>
                <a:ea typeface="HGSｺﾞｼｯｸE"/>
              </a:rPr>
              <a:t>板橋グリーンカレッジ専用ポータルサイト</a:t>
            </a:r>
            <a:br>
              <a:rPr sz="2400"/>
            </a:br>
            <a:r>
              <a:rPr b="1" lang="ja-JP" sz="2400" spc="-1" strike="noStrike">
                <a:solidFill>
                  <a:srgbClr val="90c226"/>
                </a:solidFill>
                <a:latin typeface="HGSｺﾞｼｯｸE"/>
                <a:ea typeface="HGSｺﾞｼｯｸE"/>
              </a:rPr>
              <a:t>システム構築及び運用・保守業務委託企画提案書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2339640" y="3789000"/>
            <a:ext cx="5327640" cy="3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700" spc="-1" strike="noStrike">
                <a:solidFill>
                  <a:srgbClr val="90c226"/>
                </a:solidFill>
                <a:latin typeface="Trebuchet MS"/>
                <a:ea typeface="メイリオ"/>
              </a:rPr>
              <a:t>令和　　　年　　月　　日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2556000" y="4292640"/>
            <a:ext cx="576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【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留意事項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・提案書（副本）に社名・ロゴ等を記載しないこと。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7667640" y="620640"/>
            <a:ext cx="129528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7885080" y="18900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様式４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8524800" y="83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000" spc="-1" strike="noStrike">
                <a:solidFill>
                  <a:srgbClr val="90c226"/>
                </a:solidFill>
                <a:latin typeface="Trebuchet MS"/>
                <a:ea typeface="HGPｺﾞｼｯｸE"/>
              </a:rPr>
              <a:t>目次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404040"/>
                </a:solidFill>
                <a:latin typeface="ＭＳ Ｐ明朝"/>
                <a:ea typeface="ＭＳ Ｐ明朝"/>
              </a:rPr>
              <a:t>　あいうえお・・・</a:t>
            </a:r>
            <a:r>
              <a:rPr b="0" lang="en-US" sz="1200" spc="-1" strike="noStrike">
                <a:solidFill>
                  <a:srgbClr val="404040"/>
                </a:solidFill>
                <a:latin typeface="ＭＳ Ｐ明朝"/>
                <a:ea typeface="ＭＳ Ｐ明朝"/>
              </a:rPr>
              <a:t>12</a:t>
            </a:r>
            <a:r>
              <a:rPr b="0" lang="ja-JP" sz="1200" spc="-1" strike="noStrike">
                <a:solidFill>
                  <a:srgbClr val="404040"/>
                </a:solidFill>
                <a:latin typeface="ＭＳ Ｐ明朝"/>
                <a:ea typeface="ＭＳ Ｐ明朝"/>
              </a:rPr>
              <a:t>ポイント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0" name="Picture 4" descr="BD15034_"/>
          <p:cNvPicPr/>
          <p:nvPr/>
        </p:nvPicPr>
        <p:blipFill>
          <a:blip r:embed="rId1"/>
          <a:stretch/>
        </p:blipFill>
        <p:spPr>
          <a:xfrm>
            <a:off x="539640" y="765000"/>
            <a:ext cx="8209080" cy="136800"/>
          </a:xfrm>
          <a:prstGeom prst="rect">
            <a:avLst/>
          </a:prstGeom>
          <a:ln w="0">
            <a:noFill/>
          </a:ln>
        </p:spPr>
      </p:pic>
      <p:sp>
        <p:nvSpPr>
          <p:cNvPr id="221" name="スライド番号プレースホルダ 6"/>
          <p:cNvSpPr/>
          <p:nvPr/>
        </p:nvSpPr>
        <p:spPr>
          <a:xfrm>
            <a:off x="8245440" y="602136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4D7169-8E6B-40BE-BE0C-2A9151EC7332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2:00:28Z</dcterms:created>
  <dc:creator>板橋区</dc:creator>
  <dc:description/>
  <dc:language>en-US</dc:language>
  <cp:lastModifiedBy>長澤 一葉</cp:lastModifiedBy>
  <cp:lastPrinted>2019-01-07T23:26:14Z</cp:lastPrinted>
  <dcterms:modified xsi:type="dcterms:W3CDTF">2024-11-29T00:43:09Z</dcterms:modified>
  <cp:revision>69</cp:revision>
  <dc:subject/>
  <dc:title>板橋区気象観測システム 賃貸借事業提案書 ー 詳細版 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カテゴリ">
    <vt:lpwstr>全体</vt:lpwstr>
  </property>
  <property fmtid="{D5CDD505-2E9C-101B-9397-08002B2CF9AE}" pid="3" name="有効期限">
    <vt:lpwstr/>
  </property>
  <property fmtid="{D5CDD505-2E9C-101B-9397-08002B2CF9AE}" pid="4" name="重要度">
    <vt:lpwstr>中</vt:lpwstr>
  </property>
</Properties>
</file>