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9004E-9EE4-4AE6-AC89-DD186DAE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D9E4-3FCB-477A-9CE5-A7AC3C82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1CDD-9CA1-4A6E-BDE5-F1D2A263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1CFAD-8807-46D5-81E0-4A265148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AF4A-6745-408F-8244-8EF0E2BA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64B9-212E-4185-8A17-7D382FA7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699B-86A5-447B-8FF8-461F01C8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9BF5-6807-404D-9351-9E28AF65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2395-0A7B-4D72-AEFC-411CE1A3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D0BE-E83A-4A8C-A455-8C42365E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048E-3563-4C97-A1E5-A15A3E73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77FB-B658-4931-BE3A-E3E706D6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B839-3357-4497-A5BB-A18E2CD4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7177-9253-4130-BB07-9A00E6A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B39E-80A2-4F74-8CD1-1A435920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0EC0-716D-4810-82F6-05631A78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1022-833F-4853-B33C-F47D00E5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C7D7-0F15-43FC-A287-ACA3E450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B555-3CC5-404D-894A-BBC2C25B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907E-4BDA-4F3E-B08D-6B5A753E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EF15-C67E-4B74-BE38-18AB0C81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747C-E138-4993-9884-99CD6D9D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01F79-6CBF-42A2-8794-42E6C0A6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FC872-B11B-48BA-B53C-846CB68A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1C6F-60B6-4EC7-BCD9-193E743D31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3715-4596-446B-93D0-2DA849C569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0920" y="1833120"/>
            <a:ext cx="69408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BIZ UD明朝 Medium"/>
                <a:ea typeface="BIZ UD明朝 Medium"/>
              </a:rPr>
              <a:t>新板橋区スマートシティ推進方針策定</a:t>
            </a:r>
            <a:br>
              <a:rPr sz="2800"/>
            </a:br>
            <a:r>
              <a:rPr b="1" lang="zh-TW" sz="2800" spc="-1" strike="noStrike">
                <a:solidFill>
                  <a:srgbClr val="ffffff"/>
                </a:solidFill>
                <a:latin typeface="BIZ UD明朝 Medium"/>
                <a:ea typeface="BIZ UD明朝 Medium"/>
              </a:rPr>
              <a:t>支援業務委託</a:t>
            </a:r>
            <a:r>
              <a:rPr b="1" lang="ja-JP" sz="2800" spc="-1" strike="noStrike">
                <a:solidFill>
                  <a:srgbClr val="ffffff"/>
                </a:solidFill>
                <a:latin typeface="BIZ UD明朝 Medium"/>
                <a:ea typeface="BIZ UD明朝 Medium"/>
              </a:rPr>
              <a:t>企画提案書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BIZ UD明朝 Medium"/>
                <a:ea typeface="BIZ UD明朝 Medium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IZ UD明朝 Medium"/>
                <a:ea typeface="BIZ UD明朝 Medium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BIZ UD明朝 Medium"/>
                <a:ea typeface="BIZ UD明朝 Medium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BIZ UD明朝 Medium"/>
                <a:ea typeface="BIZ UD明朝 Medium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IZ UD明朝 Medium"/>
                <a:ea typeface="BIZ UD明朝 Medium"/>
              </a:rPr>
              <a:t>・提案書（副本）に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様式２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3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2E02-F2E2-483A-BA14-606B057A6937}" type="slidenum"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BIZ UD明朝 Medium"/>
                <a:ea typeface="BIZ UD明朝 Medium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6-09T06:57:47Z</dcterms:created>
  <dc:creator/>
  <dc:description/>
  <dc:language>en-US</dc:language>
  <cp:lastModifiedBy/>
  <dcterms:modified xsi:type="dcterms:W3CDTF">2025-06-09T06:57:52Z</dcterms:modified>
  <cp:revision>1</cp:revision>
  <dc:subject/>
  <dc:title/>
</cp:coreProperties>
</file>