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6858000" cy="9144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57760" y="0"/>
            <a:ext cx="294768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2006280" y="744120"/>
            <a:ext cx="2795400" cy="3729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1120" y="4721400"/>
            <a:ext cx="5446800" cy="447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57760" y="9441000"/>
            <a:ext cx="294768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0F83602-0865-4ABE-A572-6868B61E55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2006640" y="744480"/>
            <a:ext cx="2795400" cy="37292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1120" y="4721400"/>
            <a:ext cx="54468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スライド番号プレースホルダー 3"/>
          <p:cNvSpPr/>
          <p:nvPr/>
        </p:nvSpPr>
        <p:spPr>
          <a:xfrm>
            <a:off x="3857760" y="9441000"/>
            <a:ext cx="29476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B05BECD-3B18-4137-B6DC-671D8D749B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F8560-A810-4EBC-8C92-B9968B7A6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6172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2720" y="5347800"/>
            <a:ext cx="6172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91E21-11D7-4DC9-AE13-95999D775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05320" y="264132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42720" y="534780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505320" y="534780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2FB0E-9472-47E3-9342-2CCCDCA33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1987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429640" y="2641320"/>
            <a:ext cx="1987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16560" y="2641320"/>
            <a:ext cx="1987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342720" y="5347800"/>
            <a:ext cx="1987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2429640" y="5347800"/>
            <a:ext cx="1987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4516560" y="5347800"/>
            <a:ext cx="1987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CB7F0-8E7A-4F97-85C0-53E6D860C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EFA3C-3C76-421A-805B-303E6D84B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42720" y="2641320"/>
            <a:ext cx="61722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AA008-4670-4957-AA57-439C4B8A3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6172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BD538-5FC9-48AD-ABB1-694B453C6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30117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05320" y="2641320"/>
            <a:ext cx="30117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34F40-4D1D-4BD8-B256-96FF67434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579A0-4B88-49FB-B9C7-A66F3F922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342720" y="609480"/>
            <a:ext cx="6172200" cy="84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5C9F4-8909-41C5-91EA-4FED8A0EE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05320" y="2641320"/>
            <a:ext cx="30117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42720" y="534780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779B4-119F-45BB-B0A1-FD93D39E8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342720" y="2641320"/>
            <a:ext cx="61722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C26DB-8713-49BC-AAEA-072921705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30117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05320" y="264132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3505320" y="534780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C3115-44E7-42B0-A139-B1359A99D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05320" y="264132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42720" y="5347800"/>
            <a:ext cx="6172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12CA5-D4A1-4C8E-9AD1-6414D5799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6172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2720" y="5347800"/>
            <a:ext cx="6172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F3D4F-6612-4EB4-A672-5B43E3545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505320" y="264132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42720" y="534780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3505320" y="534780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2556A-7AD6-4152-BE61-564FA273B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1987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2429640" y="2641320"/>
            <a:ext cx="1987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16560" y="2641320"/>
            <a:ext cx="1987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2720" y="5347800"/>
            <a:ext cx="1987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2429640" y="5347800"/>
            <a:ext cx="1987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4516560" y="5347800"/>
            <a:ext cx="1987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DA77A-B3BF-4509-84E3-950477E2B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6172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75758-9681-4F5C-95B6-8F9A52B0C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30117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5320" y="2641320"/>
            <a:ext cx="30117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BBA0A-6EA2-40A0-883C-D193E6E8F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FFCD8-8102-4B08-80AE-58D1B5BD5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342720" y="609480"/>
            <a:ext cx="6172200" cy="84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01E68-4969-49D1-9032-B67B84090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505320" y="2641320"/>
            <a:ext cx="30117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42720" y="534780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AD81E-20D1-4664-BABB-4BBCB5B0C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30117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505320" y="264132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505320" y="534780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251B7-DF86-4958-9C2B-968694AF8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64132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5347800"/>
            <a:ext cx="6172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56694-773D-4DD8-90ED-5463CF7B1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4914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0F67D-1DD7-481C-B9F7-253BDF717C4C}" type="slidenum">
              <a:rPr b="0" lang="en-US" sz="9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6857640" cy="728280"/>
            <a:chOff x="0" y="0"/>
            <a:chExt cx="6857640" cy="72828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14200" cy="71136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09600" y="180000"/>
              <a:ext cx="6548040" cy="36612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308160" y="180000"/>
              <a:ext cx="103680" cy="1879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410400" y="0"/>
              <a:ext cx="104760" cy="1843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10400" y="180000"/>
              <a:ext cx="104760" cy="1879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05920" y="366120"/>
              <a:ext cx="101160" cy="1843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98640" y="181800"/>
              <a:ext cx="105840" cy="1843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8160" y="361800"/>
              <a:ext cx="103680" cy="1843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05920" y="546480"/>
              <a:ext cx="101160" cy="1818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342720" y="2641320"/>
            <a:ext cx="6172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6857640" cy="9143640"/>
            <a:chOff x="0" y="0"/>
            <a:chExt cx="6857640" cy="914364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2628720" cy="914364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287000" y="2253960"/>
              <a:ext cx="5570640" cy="33778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422000"/>
              <a:ext cx="2149920" cy="4209480"/>
              <a:chOff x="0" y="1422000"/>
              <a:chExt cx="2149920" cy="420948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429840" y="4776840"/>
                <a:ext cx="432000" cy="8546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287000" y="2253600"/>
                <a:ext cx="432000" cy="8571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1710720" y="1422000"/>
                <a:ext cx="439200" cy="846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856080" y="4776840"/>
                <a:ext cx="439200" cy="8546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1710720" y="2253600"/>
                <a:ext cx="439200" cy="857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856080" y="3098160"/>
                <a:ext cx="439200" cy="8442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3098160"/>
                <a:ext cx="436680" cy="84420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287000" y="3098160"/>
                <a:ext cx="432000" cy="8442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429840" y="3930120"/>
                <a:ext cx="432000" cy="858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856080" y="3930120"/>
                <a:ext cx="439200" cy="858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342720" y="2641320"/>
            <a:ext cx="6172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342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4914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88684-BD94-46E9-84E5-4847A2754CDC}" type="slidenum">
              <a:rPr b="0" lang="en-US" sz="9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01720" y="3374640"/>
            <a:ext cx="5042160" cy="15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  <a:ea typeface="HG創英角ｺﾞｼｯｸUB"/>
              </a:rPr>
              <a:t>板橋区文書管理システム再構築及び</a:t>
            </a:r>
            <a:br>
              <a:rPr sz="2200"/>
            </a:br>
            <a:r>
              <a:rPr b="0" lang="ja-JP" sz="2200" spc="-1" strike="noStrike">
                <a:solidFill>
                  <a:srgbClr val="ffffff"/>
                </a:solidFill>
                <a:latin typeface="Arial"/>
                <a:ea typeface="HG創英角ｺﾞｼｯｸUB"/>
              </a:rPr>
              <a:t>運用保守業務委託　</a:t>
            </a:r>
            <a:br>
              <a:rPr sz="2200"/>
            </a:br>
            <a:r>
              <a:rPr b="0" lang="ja-JP" sz="2200" spc="-1" strike="noStrike">
                <a:solidFill>
                  <a:srgbClr val="ffffff"/>
                </a:solidFill>
                <a:latin typeface="Arial"/>
                <a:ea typeface="HG創英角ｺﾞｼｯｸUB"/>
              </a:rPr>
              <a:t>企画提案書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673000" y="4842000"/>
            <a:ext cx="3995640" cy="25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Arial"/>
              </a:rPr>
              <a:t>令和　　　年　　月　　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1928880" y="5002200"/>
            <a:ext cx="4321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ja-JP" sz="900" spc="-1" strike="noStrike">
                <a:solidFill>
                  <a:srgbClr val="ff0000"/>
                </a:solidFill>
                <a:latin typeface="Arial"/>
              </a:rPr>
              <a:t>留意事項</a:t>
            </a:r>
            <a:r>
              <a:rPr b="1" lang="en-US" sz="900" spc="-1" strike="noStrike">
                <a:solidFill>
                  <a:srgbClr val="ff0000"/>
                </a:solidFill>
                <a:latin typeface="Arial"/>
              </a:rPr>
              <a:t>】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0000"/>
                </a:solidFill>
                <a:latin typeface="Arial"/>
              </a:rPr>
              <a:t>・副本には社名・ロゴ等を記載しないこと。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3"/>
          <p:cNvSpPr/>
          <p:nvPr/>
        </p:nvSpPr>
        <p:spPr>
          <a:xfrm>
            <a:off x="5614920" y="965160"/>
            <a:ext cx="971640" cy="68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4"/>
          <p:cNvSpPr/>
          <p:nvPr/>
        </p:nvSpPr>
        <p:spPr>
          <a:xfrm>
            <a:off x="5886360" y="324000"/>
            <a:ext cx="7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Arial"/>
              </a:rPr>
              <a:t>様式４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5"/>
          <p:cNvSpPr/>
          <p:nvPr/>
        </p:nvSpPr>
        <p:spPr>
          <a:xfrm>
            <a:off x="6219720" y="11574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社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スライド番号プレースホルダ 6"/>
          <p:cNvSpPr/>
          <p:nvPr/>
        </p:nvSpPr>
        <p:spPr>
          <a:xfrm>
            <a:off x="491508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A1576-04F1-4C02-AE88-3CE36BE1A40F}" type="slidenum">
              <a:rPr b="0" lang="en-US" sz="9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96640" y="539640"/>
            <a:ext cx="617220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  <a:ea typeface="HGPｺﾞｼｯｸE"/>
              </a:rPr>
              <a:t>目次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BD15034_"/>
          <p:cNvPicPr/>
          <p:nvPr/>
        </p:nvPicPr>
        <p:blipFill>
          <a:blip r:embed="rId1"/>
          <a:stretch/>
        </p:blipFill>
        <p:spPr>
          <a:xfrm>
            <a:off x="353880" y="971640"/>
            <a:ext cx="6156360" cy="1029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97000" y="1115640"/>
            <a:ext cx="6271920" cy="40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704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BIZ UDPゴシック"/>
                <a:ea typeface="BIZ UDPゴシック"/>
              </a:rPr>
              <a:t>あいうえお・・・</a:t>
            </a:r>
            <a:r>
              <a:rPr b="0" lang="en-US" sz="1200" spc="-1" strike="noStrike">
                <a:solidFill>
                  <a:srgbClr val="000000"/>
                </a:solidFill>
                <a:latin typeface="BIZ UDPゴシック"/>
                <a:ea typeface="BIZ UDPゴシック"/>
              </a:rPr>
              <a:t>12</a:t>
            </a:r>
            <a:r>
              <a:rPr b="0" lang="ja-JP" sz="1200" spc="-1" strike="noStrike">
                <a:solidFill>
                  <a:srgbClr val="000000"/>
                </a:solidFill>
                <a:latin typeface="BIZ UDPゴシック"/>
                <a:ea typeface="BIZ UDPゴシック"/>
              </a:rPr>
              <a:t>ポイント以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2:00:28Z</dcterms:created>
  <dc:creator>板橋区</dc:creator>
  <dc:description/>
  <dc:language>en-US</dc:language>
  <cp:lastModifiedBy>金子 清美</cp:lastModifiedBy>
  <cp:lastPrinted>2019-01-07T23:26:14Z</cp:lastPrinted>
  <dcterms:modified xsi:type="dcterms:W3CDTF">2025-06-02T03:18:54Z</dcterms:modified>
  <cp:revision>71</cp:revision>
  <dc:subject/>
  <dc:title>板橋区気象観測システム 賃貸借事業提案書 ー 詳細版 ー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カテゴリ">
    <vt:lpwstr>全体</vt:lpwstr>
  </property>
  <property fmtid="{D5CDD505-2E9C-101B-9397-08002B2CF9AE}" pid="3" name="有効期限">
    <vt:lpwstr/>
  </property>
  <property fmtid="{D5CDD505-2E9C-101B-9397-08002B2CF9AE}" pid="4" name="重要度">
    <vt:lpwstr>中</vt:lpwstr>
  </property>
</Properties>
</file>