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5AA6-4AA7-46EA-9412-E6D2B522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7874-82FB-4B46-82DE-5C210927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9D73A-B487-486B-A3A8-B72C3A61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1BEE-3F14-41F6-889B-BB86395F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86C6-896B-4222-8ADE-85A4CC2F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C787-7F99-44F2-A27C-9A503B3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9BB8-F293-4480-9BCF-A84FF5C1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8B7D-D9E0-4B4D-BE98-CB1A56B4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8C96-6907-4E4C-AC18-9C69E37B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260C-7541-409D-AD70-B741DCFD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1040-1A5F-49DF-99DF-D1963975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ADEE-D4C9-490E-B05A-2E3B9B87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3D33-10C4-4E06-BD0F-3D92A071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35BD-4A23-4367-9B8A-BA127C1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6836-695B-4C60-8458-8A3E1217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E3F8-6D5A-46E6-9B8B-47982B08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693C-92EC-43D2-8FDC-54695A4E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083C-E877-4588-8D07-C3DA0C36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8EC0-9AF3-439B-8083-28F7D916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C4C4-2868-45F0-86DC-D765540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68E8-CDB8-41B2-A951-1DCD796C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3BCA-64FA-4A33-B32F-39275564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C398-9440-418A-B448-5C454BA4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9DA4-E802-48C1-9FB1-8CD11CD5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73A4-E0B4-4148-89A1-BE12FB23D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AE7E-9520-4584-916D-8D562C7B20CB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41240" y="1740960"/>
            <a:ext cx="6723000" cy="19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高島平緑地（高島平九丁目地区）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再整備基本計画策定支援業務委託　</a:t>
            </a:r>
            <a:br>
              <a:rPr sz="3000"/>
            </a:b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・副本には社名・ロゴ等を記載しないこと。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UDゴシック"/>
              </a:rPr>
              <a:t>様式２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95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33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41600" y="2625840"/>
            <a:ext cx="672300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ー企画提案書ー</a:t>
            </a:r>
            <a:br>
              <a:rPr sz="3000"/>
            </a:br>
            <a:endParaRPr b="1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あいうえお・・・</a:t>
            </a:r>
            <a:r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以下の順番で提案書を作成してください。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１）　業務実施体制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２）　工程計画等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３）　技術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ア）「地元ヒアリング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イ）「社会実験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ウ）「トライアルサウンディング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エ）「社会実験及びトライアルサウンディング実施のための基盤整備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オ）「適正な植栽監理のあり方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カ）「公民連携事業のための民間事業者への市場調査」及び「公民連携事業導入範囲及びスキームの検討」に　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　　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４）　見積書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吉井 香南</cp:lastModifiedBy>
  <cp:lastPrinted>2019-01-07T23:26:14Z</cp:lastPrinted>
  <dcterms:modified xsi:type="dcterms:W3CDTF">2025-07-31T02:40:38Z</dcterms:modified>
  <cp:revision>78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